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F1F-B70F-4750-9A2A-37C98578CFA9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C7CA-7F47-4931-BB04-573F6D9A14C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953-CC20-41F6-A977-C199DC72C5D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D6AB-47C7-4B64-93DB-D8E3A0E0EE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F6756-E0D8-4293-9504-A4F1667C14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8F92-4116-424A-A2AC-B573B2528A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6AAA-1199-4072-A84A-E862EDF0A0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79B7-F8E7-4E67-9964-7B2F9EA37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BB8C-6D6D-4ED4-B318-9F844BF457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2629-C0EF-4156-8F9C-10D72D4BC2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F8ED-02AF-4F90-A6B6-7696A1A852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F349-54C3-4FE7-8698-24166E3D42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E6FA-A9CA-48F5-A38C-B99F7C59AD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7BD8-6635-48B9-B5DD-CCFCB81E59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EC9E-D217-4C88-8F1A-01B764307A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41A5-B285-4794-ACC1-187A35BC39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8D14-93D9-4DE6-AB19-BCEC699B85F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A6BB-8C4D-4F02-B449-EEBA96C7509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344-E5C2-4A85-B0E3-FB2144FC550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54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57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5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83BD-3197-4EA7-B046-A4FDBCC1BC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2EF6-67DB-4A0F-9052-C8F14F4F425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79AB-EF48-43A4-A437-D6CE6E0138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365-5B42-4EDC-947A-ED446D37427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D27-72E8-413B-9F56-C501BD9DF9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5F8D-5072-4284-AFB4-28351914CE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895-F46B-4815-89F2-8089E164F3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4" name=""/>
          <p:cNvGraphicFramePr/>
          <p:nvPr/>
        </p:nvGraphicFramePr>
        <p:xfrm>
          <a:off x="687240" y="3683160"/>
          <a:ext cx="6070680" cy="505908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 und konjunktive Anfr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1.1 -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und Regel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63"/>
          <p:cNvSpPr/>
          <p:nvPr/>
        </p:nvSpPr>
        <p:spPr>
          <a:xfrm>
            <a:off x="647640" y="4483080"/>
            <a:ext cx="6108840" cy="43200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88F8-7198-46DD-AB23-8A3B729EF65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491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3EB-F497-4151-80B6-E869F351839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423-1393-48AC-B681-246F8D6EF05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C0FF-172F-4EA4-9BD7-CB75538522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2476440" y="739152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EC4C-4F2D-46C9-B180-9D6FC00379F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E8AB-A54B-47BC-B93B-2E762F49EF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E1C7-B6E4-46C2-80CD-96A88866BFE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1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69E-B4DF-4DC1-9B0C-B768E778F6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47DE-0DC3-4B44-BB2A-7534D33CA0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542B-8EFF-4FB2-87D1-396766AF58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1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0E8-EC24-43F0-9A92-39C2BD00EE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EE8-8083-4970-9389-4B10E85318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8BAE-2694-4423-9C8E-2563E7DC0DD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F17A-D5A4-42D7-B9D9-669ABF489AA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A30-086E-49F2-A2F6-62C526625A1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F225-FF9F-4786-A16F-8E966E94897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714-EDBB-4D3A-8260-73BC42F131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3732-BD7A-4D86-8F01-2D07ED0531D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791-27EB-4CB3-800C-AF02A04667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A19-F0C3-4114-8B64-8D096F7FC46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903E-1706-481E-8C88-CF4C82EFAD0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67F-4BF2-4CE4-BCF5-E799500DEE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48E-3027-4925-A9CC-8C68FDE590F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F71C-8BE8-45DB-945B-7E96B52F956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4E7D-8BFD-44D7-B1E0-5AF9605913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3857-D93C-43B5-9B10-FE1854FC28B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FA0-4A29-405E-9923-BC5E910E5E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001A-F04F-47CB-8F4F-456E2C9BC4C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5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E4D-424A-4E6A-9A43-DF44E9D676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DBC-156D-4ACB-935D-F5AB60CCD7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DEE2-2EA0-45AC-8CC0-6DE754FF70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A908-03A1-4947-BC0F-E9EC4528D1C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4D6-8011-40AB-97E6-F2159BA5985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322F-B92E-4061-A893-1A38FCAA120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5961-160A-4519-9CD1-53196A091CB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A356-1D7B-4566-A311-B14EC08D61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23:24:53Z</dcterms:created>
  <dc:creator/>
  <dc:description/>
  <cp:keywords/>
  <dc:language>en-US</dc:language>
  <cp:lastModifiedBy>Sebastian Rudolph</cp:lastModifiedBy>
  <dcterms:modified xsi:type="dcterms:W3CDTF">2008-11-05T15:12:55Z</dcterms:modified>
  <cp:revision>8</cp:revision>
  <dc:subject/>
  <dc:title>Grundlagen Semantic Web</dc:title>
</cp:coreProperties>
</file>